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D7F1F-BF86-4B5A-A167-CAFEFEBF83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B88B7-9C47-4C55-9E98-F80AF4D943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5F365-4FBD-4337-93AD-3E725E472A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435B2-1345-4A59-9BEB-5124CD3852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4BBDD-3268-4F8E-8966-7F78E5383D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E2831-F4A2-4774-9476-409A4E523D7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194EC-7A8B-471A-BEC0-30DA9A79D55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79463-817F-47DA-9A9B-0E26C707F11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149CB-2A89-4F42-9797-B424A3E2C6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D7912-BAB0-4A2D-80B8-DDCB4354C3A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30A55-2847-4C34-BDBB-7F953AF8604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17C6B-44EE-47BE-9650-00624D2A30D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A95EB-5C1E-48A9-8841-59CED5F531E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401BE-57E8-448C-A169-29243C0BF1D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19F3C-F608-4E64-A8A3-34FB5048599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E9B6B-7ECD-4C7B-9A6B-ADFD4DC5B3E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F3186-36C0-42AE-A98A-40C1550F996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FA1FE-5AB3-4D5C-9B78-0B9F032321D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27A8E-1DFA-4AF7-B9A1-54BF7927AEF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3C45-769F-4F9C-B245-39BD3DDC5F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072B6-9E68-46E2-B6F1-8B0E7B22AEB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5945-FD7E-4A3F-AEBD-02FBF124407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0F5F-8118-43D2-9A8C-5C679060448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DCF9-D4D2-4EF5-A1A3-D480E1A4295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920E-4FDC-4EFC-8D2D-DD520A87294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6E3E-7990-402B-811D-70CC77460BB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2D90-D037-4174-8921-6A32C79FD53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8A85-9E36-45D3-B3CE-A20B5E76CF3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65DA-2A3F-4971-9684-FBE4098E7A1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A55E-BA3B-4A2F-843B-C1DCCCB8E4F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AD01-272C-4FB9-9D84-A1F08125C4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6DC83-9A07-47EE-A056-438C9337636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0845-BCF9-4E80-AE8E-B41BA1A75D9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7AD31-985B-47A1-B281-3672B977D67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2476A-8EC1-423F-B90C-FC12EA8EC51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2C9A3-1B05-4F72-81CE-DA2AA0FA98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ild 8" descr=""/>
          <p:cNvPicPr/>
          <p:nvPr/>
        </p:nvPicPr>
        <p:blipFill>
          <a:blip r:embed="rId2"/>
          <a:stretch/>
        </p:blipFill>
        <p:spPr>
          <a:xfrm>
            <a:off x="7165800" y="6335640"/>
            <a:ext cx="2165400" cy="503280"/>
          </a:xfrm>
          <a:prstGeom prst="rect">
            <a:avLst/>
          </a:prstGeom>
          <a:ln w="0">
            <a:noFill/>
          </a:ln>
        </p:spPr>
      </p:pic>
      <p:sp>
        <p:nvSpPr>
          <p:cNvPr id="1" name="Textfeld 2"/>
          <p:cNvSpPr/>
          <p:nvPr/>
        </p:nvSpPr>
        <p:spPr>
          <a:xfrm>
            <a:off x="360360" y="17784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itel | Titel der Präsentation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6732360" y="167400"/>
            <a:ext cx="205740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6A4E-82A1-4EF1-9251-DBE77674B4AE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Gerade Verbindung 2"/>
          <p:cNvSpPr/>
          <p:nvPr/>
        </p:nvSpPr>
        <p:spPr>
          <a:xfrm>
            <a:off x="347760" y="47628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" name="Gerade Verbindung 7"/>
          <p:cNvSpPr/>
          <p:nvPr/>
        </p:nvSpPr>
        <p:spPr>
          <a:xfrm>
            <a:off x="324000" y="638172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5" name="Textfeld 2"/>
          <p:cNvSpPr/>
          <p:nvPr/>
        </p:nvSpPr>
        <p:spPr>
          <a:xfrm>
            <a:off x="360360" y="644040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T. Monat JJJJ | Vorname Nachname, Funktion/Abteilung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ild 8" descr=""/>
          <p:cNvPicPr/>
          <p:nvPr/>
        </p:nvPicPr>
        <p:blipFill>
          <a:blip r:embed="rId2"/>
          <a:stretch/>
        </p:blipFill>
        <p:spPr>
          <a:xfrm>
            <a:off x="7165800" y="6335640"/>
            <a:ext cx="2165400" cy="503280"/>
          </a:xfrm>
          <a:prstGeom prst="rect">
            <a:avLst/>
          </a:prstGeom>
          <a:ln w="0">
            <a:noFill/>
          </a:ln>
        </p:spPr>
      </p:pic>
      <p:sp>
        <p:nvSpPr>
          <p:cNvPr id="43" name="Textfeld 2"/>
          <p:cNvSpPr/>
          <p:nvPr/>
        </p:nvSpPr>
        <p:spPr>
          <a:xfrm>
            <a:off x="360360" y="17784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itel | Titel der Präsentation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4" name="Gerade Verbindung 2"/>
          <p:cNvSpPr/>
          <p:nvPr/>
        </p:nvSpPr>
        <p:spPr>
          <a:xfrm>
            <a:off x="347760" y="47628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5" name="Gerade Verbindung 7"/>
          <p:cNvSpPr/>
          <p:nvPr/>
        </p:nvSpPr>
        <p:spPr>
          <a:xfrm>
            <a:off x="324000" y="638172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6" name="Textfeld 2"/>
          <p:cNvSpPr/>
          <p:nvPr/>
        </p:nvSpPr>
        <p:spPr>
          <a:xfrm>
            <a:off x="360360" y="644040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T. Monat JJJJ | Vorname Nachname, Funktion/Abteilung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pic>
        <p:nvPicPr>
          <p:cNvPr id="47" name="Bild 8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Bild 8" descr=""/>
          <p:cNvPicPr/>
          <p:nvPr/>
        </p:nvPicPr>
        <p:blipFill>
          <a:blip r:embed="rId2"/>
          <a:stretch/>
        </p:blipFill>
        <p:spPr>
          <a:xfrm>
            <a:off x="7165800" y="6335640"/>
            <a:ext cx="2165400" cy="503280"/>
          </a:xfrm>
          <a:prstGeom prst="rect">
            <a:avLst/>
          </a:prstGeom>
          <a:ln w="0">
            <a:noFill/>
          </a:ln>
        </p:spPr>
      </p:pic>
      <p:sp>
        <p:nvSpPr>
          <p:cNvPr id="85" name="Textfeld 2"/>
          <p:cNvSpPr/>
          <p:nvPr/>
        </p:nvSpPr>
        <p:spPr>
          <a:xfrm>
            <a:off x="360360" y="17784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itel | Titel der Präsentation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86" name="Gerade Verbindung 2"/>
          <p:cNvSpPr/>
          <p:nvPr/>
        </p:nvSpPr>
        <p:spPr>
          <a:xfrm>
            <a:off x="347760" y="47628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87" name="Gerade Verbindung 7"/>
          <p:cNvSpPr/>
          <p:nvPr/>
        </p:nvSpPr>
        <p:spPr>
          <a:xfrm>
            <a:off x="324000" y="638172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88" name="Textfeld 2"/>
          <p:cNvSpPr/>
          <p:nvPr/>
        </p:nvSpPr>
        <p:spPr>
          <a:xfrm>
            <a:off x="360360" y="644040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T. Monat JJJJ | Vorname Nachname, Funktion/Abteilung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Bild 8" descr=""/>
          <p:cNvPicPr/>
          <p:nvPr/>
        </p:nvPicPr>
        <p:blipFill>
          <a:blip r:embed="rId2"/>
          <a:stretch/>
        </p:blipFill>
        <p:spPr>
          <a:xfrm>
            <a:off x="7165800" y="6335640"/>
            <a:ext cx="2165400" cy="503280"/>
          </a:xfrm>
          <a:prstGeom prst="rect">
            <a:avLst/>
          </a:prstGeom>
          <a:ln w="0">
            <a:noFill/>
          </a:ln>
        </p:spPr>
      </p:pic>
      <p:sp>
        <p:nvSpPr>
          <p:cNvPr id="126" name="Textfeld 2"/>
          <p:cNvSpPr/>
          <p:nvPr/>
        </p:nvSpPr>
        <p:spPr>
          <a:xfrm>
            <a:off x="360360" y="17784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itel | Titel der Präsentation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27" name="Gerade Verbindung 2"/>
          <p:cNvSpPr/>
          <p:nvPr/>
        </p:nvSpPr>
        <p:spPr>
          <a:xfrm>
            <a:off x="347760" y="47628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28" name="Gerade Verbindung 7"/>
          <p:cNvSpPr/>
          <p:nvPr/>
        </p:nvSpPr>
        <p:spPr>
          <a:xfrm>
            <a:off x="324000" y="638172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29" name="Textfeld 2"/>
          <p:cNvSpPr/>
          <p:nvPr/>
        </p:nvSpPr>
        <p:spPr>
          <a:xfrm>
            <a:off x="360360" y="644040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T. Monat JJJJ | Vorname Nachname, Funktion/Abteilung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pic>
        <p:nvPicPr>
          <p:cNvPr id="130" name="Bild 9" descr=""/>
          <p:cNvPicPr/>
          <p:nvPr/>
        </p:nvPicPr>
        <p:blipFill>
          <a:blip r:embed="rId3"/>
          <a:srcRect l="0" t="6489" r="0" b="7057"/>
          <a:stretch/>
        </p:blipFill>
        <p:spPr>
          <a:xfrm>
            <a:off x="0" y="476280"/>
            <a:ext cx="9144000" cy="59403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sldNum" idx="2"/>
          </p:nvPr>
        </p:nvSpPr>
        <p:spPr>
          <a:xfrm>
            <a:off x="6732360" y="167400"/>
            <a:ext cx="205740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D9A0-704F-4670-AA29-C6E0A31DC8D6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Bild 8" descr=""/>
          <p:cNvPicPr/>
          <p:nvPr/>
        </p:nvPicPr>
        <p:blipFill>
          <a:blip r:embed="rId2"/>
          <a:stretch/>
        </p:blipFill>
        <p:spPr>
          <a:xfrm>
            <a:off x="7165800" y="6335640"/>
            <a:ext cx="2165400" cy="503280"/>
          </a:xfrm>
          <a:prstGeom prst="rect">
            <a:avLst/>
          </a:prstGeom>
          <a:ln w="0">
            <a:noFill/>
          </a:ln>
        </p:spPr>
      </p:pic>
      <p:sp>
        <p:nvSpPr>
          <p:cNvPr id="169" name="Textfeld 2"/>
          <p:cNvSpPr/>
          <p:nvPr/>
        </p:nvSpPr>
        <p:spPr>
          <a:xfrm>
            <a:off x="360360" y="17784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itel | Titel der Präsentation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70" name="Gerade Verbindung 2"/>
          <p:cNvSpPr/>
          <p:nvPr/>
        </p:nvSpPr>
        <p:spPr>
          <a:xfrm>
            <a:off x="347760" y="47628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71" name="Gerade Verbindung 7"/>
          <p:cNvSpPr/>
          <p:nvPr/>
        </p:nvSpPr>
        <p:spPr>
          <a:xfrm>
            <a:off x="324000" y="638172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72" name="Textfeld 2"/>
          <p:cNvSpPr/>
          <p:nvPr/>
        </p:nvSpPr>
        <p:spPr>
          <a:xfrm>
            <a:off x="360360" y="644040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T. Monat JJJJ | Vorname Nachname, Funktion/Abteilung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grpSp>
        <p:nvGrpSpPr>
          <p:cNvPr id="173" name="Tabellenplatzhalter 5"/>
          <p:cNvGrpSpPr/>
          <p:nvPr/>
        </p:nvGrpSpPr>
        <p:grpSpPr>
          <a:xfrm>
            <a:off x="360360" y="1116000"/>
            <a:ext cx="8429760" cy="4995720"/>
            <a:chOff x="360360" y="1116000"/>
            <a:chExt cx="8429760" cy="4995720"/>
          </a:xfrm>
        </p:grpSpPr>
        <p:sp>
          <p:nvSpPr>
            <p:cNvPr id="174" name=""/>
            <p:cNvSpPr/>
            <p:nvPr/>
          </p:nvSpPr>
          <p:spPr>
            <a:xfrm>
              <a:off x="360360" y="1116000"/>
              <a:ext cx="15476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d9222a"/>
                  </a:solidFill>
                  <a:latin typeface="Calibri"/>
                </a:rPr>
                <a:t>Titel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08000" y="1116000"/>
              <a:ext cx="21654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d9222a"/>
                  </a:solidFill>
                  <a:latin typeface="Calibri"/>
                </a:rPr>
                <a:t>Titel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73400" y="1116000"/>
              <a:ext cx="103212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d9222a"/>
                  </a:solidFill>
                  <a:latin typeface="Calibri"/>
                </a:rPr>
                <a:t>Titel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105520" y="1116000"/>
              <a:ext cx="9255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d9222a"/>
                  </a:solidFill>
                  <a:latin typeface="Calibri"/>
                </a:rPr>
                <a:t>Titel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31080" y="1116000"/>
              <a:ext cx="16380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d9222a"/>
                  </a:solidFill>
                  <a:latin typeface="Calibri"/>
                </a:rPr>
                <a:t>Titel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69080" y="1116000"/>
              <a:ext cx="11210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d9222a"/>
                  </a:solidFill>
                  <a:latin typeface="Calibri"/>
                </a:rPr>
                <a:t>Titel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0360" y="1487520"/>
              <a:ext cx="1547640" cy="4624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636462"/>
                  </a:solidFill>
                  <a:latin typeface="Calibri"/>
                  <a:ea typeface="Calibri"/>
                </a:rPr>
                <a:t>Das Profil der KJF mit dem Gesamtansatz </a:t>
              </a:r>
              <a:br>
                <a:rPr sz="1200"/>
              </a:br>
              <a:r>
                <a:rPr b="1" lang="de-DE" sz="1200" spc="-1" strike="noStrike">
                  <a:solidFill>
                    <a:srgbClr val="636462"/>
                  </a:solidFill>
                  <a:latin typeface="Calibri"/>
                  <a:ea typeface="Calibri"/>
                </a:rPr>
                <a:t>„Profilupdate“ im </a:t>
              </a:r>
              <a:br>
                <a:rPr sz="1200"/>
              </a:br>
              <a:r>
                <a:rPr b="1" lang="de-DE" sz="1200" spc="-1" strike="noStrike">
                  <a:solidFill>
                    <a:srgbClr val="636462"/>
                  </a:solidFill>
                  <a:latin typeface="Calibri"/>
                  <a:ea typeface="Calibri"/>
                </a:rPr>
                <a:t>Verband verstärkt </a:t>
              </a:r>
              <a:br>
                <a:rPr sz="1200"/>
              </a:br>
              <a:r>
                <a:rPr b="1" lang="de-DE" sz="1200" spc="-1" strike="noStrike">
                  <a:solidFill>
                    <a:srgbClr val="636462"/>
                  </a:solidFill>
                  <a:latin typeface="Calibri"/>
                  <a:ea typeface="Calibri"/>
                </a:rPr>
                <a:t>in den Fokus rücken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08000" y="1487520"/>
              <a:ext cx="216540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Fortsetzung des Dialogs zum </a:t>
              </a:r>
              <a:br>
                <a:rPr sz="1200"/>
              </a:b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Gesamtansatz „Profilupdate“ </a:t>
              </a:r>
              <a:br>
                <a:rPr sz="1200"/>
              </a:b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mit den Führungskräften in einer Leiterkonferenz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73400" y="1487520"/>
              <a:ext cx="103212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1. Quartal 2016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105520" y="1487520"/>
              <a:ext cx="92556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1. Quartal 2016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31080" y="1487520"/>
              <a:ext cx="163800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Der Gesamtansatz wird von den Mitarbeiter/innen wahrgenommen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669080" y="1487520"/>
              <a:ext cx="112104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siehe Anhang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08000" y="2394000"/>
              <a:ext cx="2165400" cy="28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Kommunikation des Profilupdate </a:t>
              </a:r>
              <a:br>
                <a:rPr sz="1200"/>
              </a:b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Gesamtansatzes mit allen Mitarbeitern z.B. durch: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- Storytelling (regelmäßige Botschaften im KJF-Mitarbeiterportal)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- Anpassung Programm „Herzlich Willkommen“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- Einbindung des Gesamtansatz „Profilupdate“ in das KJF-Führungskräftekonzept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73400" y="2394000"/>
              <a:ext cx="1032120" cy="28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1. Quartal 2016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105520" y="2394000"/>
              <a:ext cx="925560" cy="28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1. Quartal 2016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31080" y="2394000"/>
              <a:ext cx="1638000" cy="28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Der Gesamtansatz wird von den Mitarbeiter/innen wahrgenommen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669080" y="2394000"/>
              <a:ext cx="1121040" cy="28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siehe Anhang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908000" y="5205240"/>
              <a:ext cx="216540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Fortsetzung des Dialogs zum </a:t>
              </a:r>
              <a:br>
                <a:rPr sz="1200"/>
              </a:b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Gesamtansatz „Profilupdate“ </a:t>
              </a:r>
              <a:br>
                <a:rPr sz="1200"/>
              </a:b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mit den Führungskräften in einer Leiterkonferenz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73400" y="5205240"/>
              <a:ext cx="103212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1. Quartal 2016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105520" y="5205240"/>
              <a:ext cx="92556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31080" y="5205240"/>
              <a:ext cx="163800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Der Gesamtansatz wird von den Mitarbeiter/innen wahrgenommen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669080" y="5205240"/>
              <a:ext cx="112104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siehe Anhang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908000" y="1116000"/>
              <a:ext cx="0" cy="499572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073400" y="1116000"/>
              <a:ext cx="0" cy="499572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05520" y="1116000"/>
              <a:ext cx="0" cy="499572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31080" y="1116000"/>
              <a:ext cx="0" cy="499572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69080" y="1116000"/>
              <a:ext cx="0" cy="499572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0360" y="1487520"/>
              <a:ext cx="8429760" cy="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08000" y="2394000"/>
              <a:ext cx="6882120" cy="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08000" y="5205240"/>
              <a:ext cx="6882120" cy="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0360" y="1116000"/>
              <a:ext cx="0" cy="499572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790120" y="1116000"/>
              <a:ext cx="0" cy="499572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0360" y="1116000"/>
              <a:ext cx="8429760" cy="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0360" y="6111720"/>
              <a:ext cx="8429760" cy="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sldNum" idx="3"/>
          </p:nvPr>
        </p:nvSpPr>
        <p:spPr>
          <a:xfrm>
            <a:off x="6732360" y="167400"/>
            <a:ext cx="205740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7E45-90C9-4237-A47A-24B351A8768D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Bild 8" descr=""/>
          <p:cNvPicPr/>
          <p:nvPr/>
        </p:nvPicPr>
        <p:blipFill>
          <a:blip r:embed="rId2"/>
          <a:stretch/>
        </p:blipFill>
        <p:spPr>
          <a:xfrm>
            <a:off x="7165800" y="6335640"/>
            <a:ext cx="2165400" cy="503280"/>
          </a:xfrm>
          <a:prstGeom prst="rect">
            <a:avLst/>
          </a:prstGeom>
          <a:ln w="0">
            <a:noFill/>
          </a:ln>
        </p:spPr>
      </p:pic>
      <p:sp>
        <p:nvSpPr>
          <p:cNvPr id="246" name="Textfeld 2"/>
          <p:cNvSpPr/>
          <p:nvPr/>
        </p:nvSpPr>
        <p:spPr>
          <a:xfrm>
            <a:off x="360360" y="17784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itel | Titel der Präsentation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47" name="Gerade Verbindung 2"/>
          <p:cNvSpPr/>
          <p:nvPr/>
        </p:nvSpPr>
        <p:spPr>
          <a:xfrm>
            <a:off x="347760" y="47628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48" name="Gerade Verbindung 7"/>
          <p:cNvSpPr/>
          <p:nvPr/>
        </p:nvSpPr>
        <p:spPr>
          <a:xfrm>
            <a:off x="324000" y="638172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49" name="Textfeld 2"/>
          <p:cNvSpPr/>
          <p:nvPr/>
        </p:nvSpPr>
        <p:spPr>
          <a:xfrm>
            <a:off x="360360" y="644040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T. Monat JJJJ | Vorname Nachname, Funktion/Abteilung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Bild 8" descr=""/>
          <p:cNvPicPr/>
          <p:nvPr/>
        </p:nvPicPr>
        <p:blipFill>
          <a:blip r:embed="rId2"/>
          <a:stretch/>
        </p:blipFill>
        <p:spPr>
          <a:xfrm>
            <a:off x="7165800" y="6335640"/>
            <a:ext cx="2165400" cy="503280"/>
          </a:xfrm>
          <a:prstGeom prst="rect">
            <a:avLst/>
          </a:prstGeom>
          <a:ln w="0">
            <a:noFill/>
          </a:ln>
        </p:spPr>
      </p:pic>
      <p:sp>
        <p:nvSpPr>
          <p:cNvPr id="287" name="Textfeld 2"/>
          <p:cNvSpPr/>
          <p:nvPr/>
        </p:nvSpPr>
        <p:spPr>
          <a:xfrm>
            <a:off x="360360" y="17784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itel | Titel der Präsentation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88" name="Gerade Verbindung 2"/>
          <p:cNvSpPr/>
          <p:nvPr/>
        </p:nvSpPr>
        <p:spPr>
          <a:xfrm>
            <a:off x="347760" y="47628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89" name="Gerade Verbindung 7"/>
          <p:cNvSpPr/>
          <p:nvPr/>
        </p:nvSpPr>
        <p:spPr>
          <a:xfrm>
            <a:off x="324000" y="638172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90" name="Textfeld 2"/>
          <p:cNvSpPr/>
          <p:nvPr/>
        </p:nvSpPr>
        <p:spPr>
          <a:xfrm>
            <a:off x="360360" y="644040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T. Monat JJJJ | Vorname Nachname, Funktion/Abteilung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pic>
        <p:nvPicPr>
          <p:cNvPr id="291" name="Bild 8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476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7476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4767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476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76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747678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74767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7678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747678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74767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47678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747678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47678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7476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47678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7476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47678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360360" y="4292280"/>
            <a:ext cx="59752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 Light"/>
              </a:rPr>
              <a:t>Information zum Stand neue Geschäftsstelle in Augsburg</a:t>
            </a:r>
            <a:endParaRPr b="0" lang="en-US" sz="35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60360" y="3916080"/>
            <a:ext cx="597528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Calibri"/>
                <a:ea typeface="Calibri"/>
              </a:rPr>
              <a:t>Personalversammlung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60360" y="6154560"/>
            <a:ext cx="5975280" cy="4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 Light"/>
                <a:ea typeface="Calibri"/>
              </a:rPr>
              <a:t>Ort |  TT. Monat JJJJ | Vorname Nachname, Funktion/Abteilung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360000" y="590400"/>
            <a:ext cx="63723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Hier gibt es eine Tabellenformatvorlage!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70" name="Foliennummernplatzhalter 2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C561-5EE8-462E-8073-A2826AC9BC33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360360" y="1116000"/>
          <a:ext cx="8429760" cy="4995720"/>
        </p:xfrm>
        <a:graphic>
          <a:graphicData uri="http://schemas.openxmlformats.org/drawingml/2006/table">
            <a:tbl>
              <a:tblPr/>
              <a:tblGrid>
                <a:gridCol w="1547640"/>
                <a:gridCol w="2165400"/>
                <a:gridCol w="1032120"/>
                <a:gridCol w="925560"/>
                <a:gridCol w="1638000"/>
                <a:gridCol w="1121040"/>
              </a:tblGrid>
              <a:tr h="274320">
                <a:tc>
                  <a:txBody>
                    <a:bodyPr lIns="90720" rIns="90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d9222a"/>
                          </a:solidFill>
                          <a:latin typeface="Calibri"/>
                        </a:rPr>
                        <a:t>Titel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90720" marR="9072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90720" rIns="90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d9222a"/>
                          </a:solidFill>
                          <a:latin typeface="Calibri"/>
                        </a:rPr>
                        <a:t>Titel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90720" marR="9072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90720" rIns="90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d9222a"/>
                          </a:solidFill>
                          <a:latin typeface="Calibri"/>
                        </a:rPr>
                        <a:t>Titel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90720" marR="9072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90720" rIns="90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d9222a"/>
                          </a:solidFill>
                          <a:latin typeface="Calibri"/>
                        </a:rPr>
                        <a:t>Titel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90720" marR="9072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90720" rIns="90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d9222a"/>
                          </a:solidFill>
                          <a:latin typeface="Calibri"/>
                        </a:rPr>
                        <a:t>Titel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90720" marR="9072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90720" rIns="90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d9222a"/>
                          </a:solidFill>
                          <a:latin typeface="Calibri"/>
                        </a:rPr>
                        <a:t>Titel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90720" marR="9072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1239480">
                <a:tc rowSpan="3"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636462"/>
                          </a:solidFill>
                          <a:latin typeface="Calibri"/>
                          <a:ea typeface="Calibri"/>
                        </a:rPr>
                        <a:t>Das Profil der KJF mit dem Gesamtansatz </a:t>
                      </a:r>
                      <a:br>
                        <a:rPr sz="1200"/>
                      </a:br>
                      <a:r>
                        <a:rPr b="1" lang="de-DE" sz="1200" spc="-1" strike="noStrike">
                          <a:solidFill>
                            <a:srgbClr val="636462"/>
                          </a:solidFill>
                          <a:latin typeface="Calibri"/>
                          <a:ea typeface="Calibri"/>
                        </a:rPr>
                        <a:t>„Profilupdate“ im </a:t>
                      </a:r>
                      <a:br>
                        <a:rPr sz="1200"/>
                      </a:br>
                      <a:r>
                        <a:rPr b="1" lang="de-DE" sz="1200" spc="-1" strike="noStrike">
                          <a:solidFill>
                            <a:srgbClr val="636462"/>
                          </a:solidFill>
                          <a:latin typeface="Calibri"/>
                          <a:ea typeface="Calibri"/>
                        </a:rPr>
                        <a:t>Verband verstärkt </a:t>
                      </a:r>
                      <a:br>
                        <a:rPr sz="1200"/>
                      </a:br>
                      <a:r>
                        <a:rPr b="1" lang="de-DE" sz="1200" spc="-1" strike="noStrike">
                          <a:solidFill>
                            <a:srgbClr val="636462"/>
                          </a:solidFill>
                          <a:latin typeface="Calibri"/>
                          <a:ea typeface="Calibri"/>
                        </a:rPr>
                        <a:t>in den Fokus rücken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Fortsetzung des Dialogs zum </a:t>
                      </a:r>
                      <a:br>
                        <a:rPr sz="1200"/>
                      </a:b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Gesamtansatz „Profilupdate“ </a:t>
                      </a:r>
                      <a:br>
                        <a:rPr sz="1200"/>
                      </a:b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mit den Führungskräften in einer Leiterkonferenz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1. Quartal 2016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1. Quartal 2016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Der Gesamtansatz wird von den Mitarbeiter/innen wahrgenommen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siehe Anhang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9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Kommunikation des Profilupdate </a:t>
                      </a:r>
                      <a:br>
                        <a:rPr sz="1200"/>
                      </a:b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Gesamtansatzes mit allen Mitarbeitern z.B. durch: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- Storytelling (regelmäßige Botschaften im KJF-Mitarbeiterportal)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- Anpassung Programm „Herzlich Willkommen“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- Einbindung des Gesamtansatz „Profilupdate“ in das KJF-Führungskräftekonzept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1. Quartal 2016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1. Quartal 2016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Der Gesamtansatz wird von den Mitarbeiter/innen wahrgenommen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siehe Anhang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123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Fortsetzung des Dialogs zum </a:t>
                      </a:r>
                      <a:br>
                        <a:rPr sz="1200"/>
                      </a:b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Gesamtansatz „Profilupdate“ </a:t>
                      </a:r>
                      <a:br>
                        <a:rPr sz="1200"/>
                      </a:b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mit den Führungskräften in einer Leiterkonferenz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1. Quartal 2016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Der Gesamtansatz wird von den Mitarbeiter/innen wahrgenommen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siehe Anhang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360360" y="1557000"/>
            <a:ext cx="62928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d9222a"/>
                </a:solidFill>
                <a:latin typeface="Calibri"/>
                <a:ea typeface="Calibri"/>
              </a:rPr>
              <a:t>Vorname Nachname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60360" y="1885680"/>
            <a:ext cx="6292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36462"/>
                </a:solidFill>
                <a:latin typeface="Calibri"/>
                <a:ea typeface="Calibri"/>
              </a:rPr>
              <a:t>Funktion, Abteilung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60360" y="2226960"/>
            <a:ext cx="62928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Einrichtung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Straße Hausnummer, Postleitzahl Ort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Telefonnummer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Email-Adresse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60360" y="3757320"/>
            <a:ext cx="6292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d9222a"/>
                </a:solidFill>
                <a:latin typeface="Calibri"/>
                <a:ea typeface="Calibri"/>
              </a:rPr>
              <a:t>Vorname Nachname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360360" y="4087440"/>
            <a:ext cx="62928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36462"/>
                </a:solidFill>
                <a:latin typeface="Calibri"/>
                <a:ea typeface="Calibri"/>
              </a:rPr>
              <a:t>Funktion, Abteilung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60360" y="4427280"/>
            <a:ext cx="62928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Einrichtung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Straße Hausnummer, Postleitzahl Ort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Telefonnummer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Email-Adresse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78" name="Foliennummernplatzhalter 7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83C1-ED4B-4339-B303-4B88DF96B373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360360" y="950400"/>
            <a:ext cx="6292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Bei Rückfragen wenden Sie sich bitte an: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360360" y="3780000"/>
            <a:ext cx="47880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 Light"/>
              </a:rPr>
              <a:t>Vielen Dank!</a:t>
            </a:r>
            <a:endParaRPr b="0" lang="en-US" sz="35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360360" y="3301560"/>
            <a:ext cx="59752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36462"/>
                </a:solidFill>
                <a:latin typeface="Calibri Light"/>
              </a:rPr>
              <a:t>Bericht Abteilung Wirtschaft und Finanzen</a:t>
            </a:r>
            <a:endParaRPr b="0" lang="en-US" sz="35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60360" y="2923920"/>
            <a:ext cx="5975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d9222a"/>
                </a:solidFill>
                <a:latin typeface="Calibri"/>
                <a:ea typeface="Calibri"/>
              </a:rPr>
              <a:t>Personalversammlung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35" name="Foliennummernplatzhalter 3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0BE0-C1BF-40AA-A4FF-70600AAB8647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2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360000" y="907920"/>
            <a:ext cx="63723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d9222a"/>
                </a:solidFill>
                <a:latin typeface="Calibri"/>
                <a:ea typeface="Calibri"/>
              </a:rPr>
              <a:t>Inhaltsverzeichnis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60360" y="1584360"/>
            <a:ext cx="5032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lnSpc>
                <a:spcPts val="22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01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02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03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04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900000" y="1584360"/>
            <a:ext cx="5832720" cy="28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462"/>
                </a:solidFill>
                <a:latin typeface="Calibri Light"/>
              </a:rPr>
              <a:t>Kapitelpunkt 1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462"/>
                </a:solidFill>
                <a:latin typeface="Calibri Light"/>
              </a:rPr>
              <a:t>Kapitelpunkt 2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462"/>
                </a:solidFill>
                <a:latin typeface="Calibri Light"/>
              </a:rPr>
              <a:t>Kapitelpunkt 3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462"/>
                </a:solidFill>
                <a:latin typeface="Calibri Light"/>
              </a:rPr>
              <a:t>Kapitelpunkt 4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39" name="Foliennummernplatzhalter 4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DE06-4874-4EA4-9E59-A879C1BFD341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3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360000" y="907920"/>
            <a:ext cx="63723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Headline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41" name="Foliennummernplatzhalter 3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D560-201E-4E3D-B9AE-D9E9C1C1EE4F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60360" y="1581120"/>
            <a:ext cx="5291280" cy="36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buClr>
                <a:srgbClr val="d9222a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</a:rPr>
              <a:t>Bullet 1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buClr>
                <a:srgbClr val="d9222a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</a:rPr>
              <a:t>Bullet 2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623880" indent="-166680">
              <a:lnSpc>
                <a:spcPts val="1800"/>
              </a:lnSpc>
              <a:spcBef>
                <a:spcPts val="451"/>
              </a:spcBef>
              <a:buClr>
                <a:srgbClr val="636462"/>
              </a:buClr>
              <a:buSzPct val="85000"/>
              <a:buFont typeface="Calibri Ligh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</a:rPr>
              <a:t>Unterpunkt 1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623880" indent="-166680">
              <a:lnSpc>
                <a:spcPts val="1800"/>
              </a:lnSpc>
              <a:spcBef>
                <a:spcPts val="451"/>
              </a:spcBef>
              <a:buClr>
                <a:srgbClr val="636462"/>
              </a:buClr>
              <a:buSzPct val="85000"/>
              <a:buFont typeface="Calibri Ligh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</a:rPr>
              <a:t>Unterpunkt 2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623880" indent="-166680">
              <a:lnSpc>
                <a:spcPts val="1800"/>
              </a:lnSpc>
              <a:spcBef>
                <a:spcPts val="451"/>
              </a:spcBef>
              <a:buClr>
                <a:srgbClr val="636462"/>
              </a:buClr>
              <a:buSzPct val="85000"/>
              <a:buFont typeface="Calibri Ligh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</a:rPr>
              <a:t>Unterpunkt 3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buClr>
                <a:srgbClr val="d9222a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</a:rPr>
              <a:t>Bullet 2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623880" indent="-166680">
              <a:lnSpc>
                <a:spcPts val="1800"/>
              </a:lnSpc>
              <a:spcBef>
                <a:spcPts val="451"/>
              </a:spcBef>
              <a:buClr>
                <a:srgbClr val="636462"/>
              </a:buClr>
              <a:buSzPct val="85000"/>
              <a:buFont typeface="Calibri Ligh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</a:rPr>
              <a:t>Unterpunkt 1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623880" indent="-166680">
              <a:lnSpc>
                <a:spcPts val="1800"/>
              </a:lnSpc>
              <a:spcBef>
                <a:spcPts val="451"/>
              </a:spcBef>
              <a:buClr>
                <a:srgbClr val="636462"/>
              </a:buClr>
              <a:buSzPct val="85000"/>
              <a:buFont typeface="Calibri Ligh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</a:rPr>
              <a:t>Unterpunkt 2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623880" indent="-166680">
              <a:lnSpc>
                <a:spcPts val="1800"/>
              </a:lnSpc>
              <a:spcBef>
                <a:spcPts val="451"/>
              </a:spcBef>
              <a:buClr>
                <a:srgbClr val="636462"/>
              </a:buClr>
              <a:buSzPct val="85000"/>
              <a:buFont typeface="Calibri Ligh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</a:rPr>
              <a:t>Unterpunkt 3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623880" indent="0">
              <a:lnSpc>
                <a:spcPts val="18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360000" y="907920"/>
            <a:ext cx="63723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Headline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60000" y="1584000"/>
            <a:ext cx="637236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ts val="2200"/>
              </a:lnSpc>
              <a:spcBef>
                <a:spcPts val="400"/>
              </a:spcBef>
              <a:buClr>
                <a:srgbClr val="63646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36462"/>
                </a:solidFill>
                <a:latin typeface="Calibri"/>
                <a:ea typeface="Calibri"/>
              </a:rPr>
              <a:t>Erstens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266760" indent="0">
              <a:lnSpc>
                <a:spcPts val="22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Und noch mehr Unterzeilen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266760" indent="0">
              <a:lnSpc>
                <a:spcPts val="22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Und noch mehr Unterzeilen mit ganz viel Text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marL="225360" indent="-225360">
              <a:lnSpc>
                <a:spcPts val="2200"/>
              </a:lnSpc>
              <a:spcBef>
                <a:spcPts val="400"/>
              </a:spcBef>
              <a:buClr>
                <a:srgbClr val="63646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36462"/>
                </a:solidFill>
                <a:latin typeface="Calibri"/>
                <a:ea typeface="Calibri"/>
              </a:rPr>
              <a:t>Und zweitens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266760" indent="0">
              <a:lnSpc>
                <a:spcPts val="22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Und noch mehr Unterzeilen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266760" indent="0">
              <a:lnSpc>
                <a:spcPts val="22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Und noch mehr Unterzeilen mit ganz viel Text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marL="225360" indent="0">
              <a:lnSpc>
                <a:spcPts val="22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45" name="Foliennummernplatzhalter 3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6136-2F31-488F-A1C9-2FB6BEB14677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360360" y="907920"/>
            <a:ext cx="629280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Headline zum Bild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4642920" y="980640"/>
            <a:ext cx="4032360" cy="22575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4642920" y="3384720"/>
            <a:ext cx="4032360" cy="22572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60000" y="1584000"/>
            <a:ext cx="414036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ts val="2200"/>
              </a:lnSpc>
              <a:spcBef>
                <a:spcPts val="400"/>
              </a:spcBef>
              <a:buClr>
                <a:srgbClr val="63646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36462"/>
                </a:solidFill>
                <a:latin typeface="Calibri"/>
                <a:ea typeface="Calibri"/>
              </a:rPr>
              <a:t>Text zum Bild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266760" indent="0">
              <a:lnSpc>
                <a:spcPts val="22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Noch mehr Text zum Bild.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50" name="Foliennummernplatzhalter 5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BB0A-EC25-498D-87B1-17E038343D49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360000" y="907920"/>
            <a:ext cx="63723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Headline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6035400" y="1368360"/>
            <a:ext cx="2639880" cy="395928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3250800" y="1368360"/>
            <a:ext cx="2639880" cy="39592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60360" y="1584000"/>
            <a:ext cx="26272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ts val="2200"/>
              </a:lnSpc>
              <a:spcBef>
                <a:spcPts val="400"/>
              </a:spcBef>
              <a:buClr>
                <a:srgbClr val="63646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36462"/>
                </a:solidFill>
                <a:latin typeface="Calibri"/>
                <a:ea typeface="Calibri"/>
              </a:rPr>
              <a:t>Text zum Bild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266760" indent="0">
              <a:lnSpc>
                <a:spcPts val="22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Noch mehr Text zum Bild.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55" name="Foliennummernplatzhalter 5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877B-DDEC-44FF-8E8E-1EE2EFFA4A55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68000" y="1368360"/>
            <a:ext cx="2639880" cy="395928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360000" y="5789160"/>
            <a:ext cx="38163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6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Bildunterschrift/Text zum Bild</a:t>
            </a:r>
            <a:endParaRPr b="0" lang="en-US" sz="1400" spc="-1" strike="noStrike">
              <a:solidFill>
                <a:srgbClr val="747678"/>
              </a:solidFill>
              <a:latin typeface="Calibri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6035400" y="1368360"/>
            <a:ext cx="2639880" cy="3959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3"/>
          <a:stretch/>
        </p:blipFill>
        <p:spPr>
          <a:xfrm>
            <a:off x="3250800" y="1368360"/>
            <a:ext cx="2639880" cy="3959280"/>
          </a:xfrm>
          <a:prstGeom prst="rect">
            <a:avLst/>
          </a:prstGeom>
          <a:ln w="0">
            <a:noFill/>
          </a:ln>
        </p:spPr>
      </p:pic>
      <p:sp>
        <p:nvSpPr>
          <p:cNvPr id="360" name="Foliennummernplatzhalter 5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A464-5990-4F1A-8A82-BDDB10BB599B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60000" y="907920"/>
            <a:ext cx="63723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Headline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468000" y="980640"/>
            <a:ext cx="4032360" cy="225756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468000" y="3384720"/>
            <a:ext cx="4032360" cy="225720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642920" y="980640"/>
            <a:ext cx="4032360" cy="22575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4"/>
          <a:stretch/>
        </p:blipFill>
        <p:spPr>
          <a:xfrm>
            <a:off x="4642920" y="3384720"/>
            <a:ext cx="4032360" cy="22572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360000" y="5789160"/>
            <a:ext cx="38163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6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Bildunterschrift/Text zum Bild</a:t>
            </a:r>
            <a:endParaRPr b="0" lang="en-US" sz="14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67" name="Foliennummernplatzhalter 6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D4B6-3755-41FF-9841-F9112046E108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0000" y="590400"/>
            <a:ext cx="63723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Headline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7T09:41:30Z</dcterms:created>
  <dc:creator>Melanie Dippert</dc:creator>
  <dc:description/>
  <dc:language>en-US</dc:language>
  <cp:lastModifiedBy>Microsoft Office-Anwender</cp:lastModifiedBy>
  <cp:lastPrinted>2017-10-24T09:28:59Z</cp:lastPrinted>
  <dcterms:modified xsi:type="dcterms:W3CDTF">2017-10-24T10:26:58Z</dcterms:modified>
  <cp:revision>97</cp:revision>
  <dc:subject/>
  <dc:title>PowerPoint-Präsentation</dc:title>
</cp:coreProperties>
</file>