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D651-6C0A-4802-A84F-24A08E0F1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7C56-82F3-4760-BCDE-36F43F43D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BC33-5A30-41BE-BCA0-6887E7611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A75B-F51D-4643-AFB6-238E111DF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6C2E-6369-439C-A6E1-FD17C7234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F6DA-4B59-4D01-90D4-513CE317E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FFFB-D664-4A47-948E-5D9B837BE4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36F7-947F-43A9-8559-30A8EF1E77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2CCD-762A-4B4C-9575-995EF445C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05AA-A705-488F-8DE9-7481A3558B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500A-9EEF-49E0-A165-60C5F588AF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F3AA-75CC-42ED-A260-75EDEB0CF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46E6-E71B-45A3-BE6E-3B5DB15E8B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7378-37D1-4EC9-B539-33A4530F61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E6AF-8A10-4F12-B01B-58560B63F4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00F3-E1F2-419C-926A-6034BC8FCA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34DF-1D4C-42B1-953E-4C9FEE2F04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D6C1-8B71-4F21-B913-8CC0FE4066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DADB-C6B8-4E35-B442-A675A0E276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749-4F2B-47C7-A6F0-53BB9708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4DE7-FD37-4178-984D-3413943F2E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311-B838-46EB-8189-4F4C34AA73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E75-B330-4D60-85FF-319C1E9CE8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71B-8108-4A5C-9522-11D0DA77F8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CC6-B101-41C8-9708-80CDFE828F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175-00E6-4B36-A003-437612C1BF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D4D-65F8-4C1B-A4E7-D605AFA13A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5D5-5DB6-4C68-BA18-5F761A244C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398-7AC0-4DE6-91EF-E7ACC3C95E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EF2-8E0B-4D82-BF34-955D2F8B3B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742-1298-4DD4-ADD8-57BCCD4E5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0737-CABC-4FD7-97A9-C97DDA36EA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4C6-12B9-42D4-A551-3D3A144335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C4EA-4187-473A-94D5-6C207043A5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9E7A-7C56-42C3-98B5-935F1BB3C4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A37A-BDC8-4164-B4F2-DF0524760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5AA-74B7-458B-90DB-E5E8C006EB4C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B01A-48E2-42A2-8D71-F94FC3D48C45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79b8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1B4-B25E-4CFB-AD29-A2F42178FF3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0200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2BD4-DAE1-429E-BBD5-102A6CD36ABC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79b8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79b8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79b8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A70-6A9E-46BA-BB1C-0D55D60ADB9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9b8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5F0-D03F-439F-988F-7D909D081411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9b8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50B-DEF5-4A1F-BEFB-B216EA1B93DC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6AC-7B95-40B1-AFA1-7BD87802F9BD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79b8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F5E-B60D-4374-9BE9-9C022292C1C1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0502-D7B2-45AE-BB5B-A957A81ED7D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E189-1A9E-43A7-A67A-921DF5CA83A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CC7-44EB-4F77-AA0B-AE97058645EF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C5A-D194-4CBF-983C-945C8AEFE85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12:23:58Z</cp:lastPrinted>
  <dcterms:modified xsi:type="dcterms:W3CDTF">2017-10-24T12:58:29Z</dcterms:modified>
  <cp:revision>93</cp:revision>
  <dc:subject/>
  <dc:title>PowerPoint-Präsentation</dc:title>
</cp:coreProperties>
</file>