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F5E1-014D-4457-AAA2-E28A09DDB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1B2F-0B4D-4709-8E0C-D1FA0C1D4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07BE-325B-43DD-A95B-C73D0D5C0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06C7-F031-403C-AC44-8AACAB697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F41E-2415-4427-94A2-466FACFEC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A352-1FD6-4929-B21A-E9316C31CC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F58A-DB47-4337-9F1D-6C3E7639E5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4A55-5B5C-41C0-98D5-3B25FCE900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3417-909F-43CF-A86B-9EA8FDA06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F8B1-4AB3-423F-9D22-927F8A9134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128F-1B9E-4552-8AD9-62278975D6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B0E0-1684-41BF-AC04-AD814A3020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5DD7-75C5-4937-8F2B-C4B6438316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8440-D092-4C51-B13F-106C7EA284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31B6-1766-4C43-ABBF-475A608131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CA79-56FE-46CE-83B5-0417C7F807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B3A9-0D22-41AF-8BD9-68BB06E5F4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2E8B-83BD-47E2-8D2D-810D9EA7C2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23DA-0920-4FA7-8DC7-C7AB7E89BC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149-CF8F-4D70-8185-56B811EA9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27F4-A0CD-4EB7-8F5B-33B4EBD9425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C8B-931F-46DF-9D73-971A6EACF7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FFB-EFF9-4016-A562-844C5C75CA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F76-B5D3-4D6B-A3CB-084353E1D3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ECC-D5EC-40E1-82A7-A5AB656CC9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A23-40B6-41C1-A67F-CECA4C1BE2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6E4-0A29-42DF-9F3F-CA3FEC3D18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9C1-F454-40E7-B8FB-050D61AFB1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CAE-45E7-4259-929F-A10BD56029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4B1-6E5F-4A7C-BF74-7510941C22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830-CCF4-457F-9132-FB1E10A4F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866D-1F26-4954-ACD4-5159863C2C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E3D-A556-458D-9DB9-AF870B0100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4430-0E83-41F9-A124-0B30EDFD08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0888-44E6-4A87-B30C-AE6A5D4ADC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BA85-78A1-444C-88B9-83728E75A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942-12F0-4B35-B981-69F91368687B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4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6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47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6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7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8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130" name="Bild 9" descr=""/>
          <p:cNvPicPr/>
          <p:nvPr/>
        </p:nvPicPr>
        <p:blipFill>
          <a:blip r:embed="rId3"/>
          <a:srcRect l="0" t="6489" r="0" b="7057"/>
          <a:stretch/>
        </p:blipFill>
        <p:spPr>
          <a:xfrm>
            <a:off x="0" y="476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2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38C7-D826-42E6-8E69-5FE66E929CA0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0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1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2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pSp>
        <p:nvGrpSpPr>
          <p:cNvPr id="173" name="Tabellenplatzhalter 5"/>
          <p:cNvGrpSpPr/>
          <p:nvPr/>
        </p:nvGrpSpPr>
        <p:grpSpPr>
          <a:xfrm>
            <a:off x="360360" y="1116000"/>
            <a:ext cx="8429760" cy="4995720"/>
            <a:chOff x="360360" y="1116000"/>
            <a:chExt cx="8429760" cy="4995720"/>
          </a:xfrm>
        </p:grpSpPr>
        <p:sp>
          <p:nvSpPr>
            <p:cNvPr id="174" name=""/>
            <p:cNvSpPr/>
            <p:nvPr/>
          </p:nvSpPr>
          <p:spPr>
            <a:xfrm>
              <a:off x="360360" y="1116000"/>
              <a:ext cx="1547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1116000"/>
              <a:ext cx="21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73400" y="1116000"/>
              <a:ext cx="1032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1116000"/>
              <a:ext cx="925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1080" y="1116000"/>
              <a:ext cx="163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9080" y="1116000"/>
              <a:ext cx="1121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60" y="1487520"/>
              <a:ext cx="1547640" cy="4624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Das Profil der KJF mit dem Gesamtansatz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„Profilupdate“ im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Verband verstärkt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in den Fokus rück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148752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3400" y="148752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148752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1080" y="148752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9080" y="148752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2394000"/>
              <a:ext cx="21654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Kommunikation des Profilupdate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es mit allen Mitarbeitern z.B. durch: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Storytelling (regelmäßige Botschaften im KJF-Mitarbeiterportal)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Anpassung Programm „Herzlich Willkommen“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Einbindung des Gesamtansatz „Profilupdate“ in das KJF-Führungskräftekonzept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3400" y="2394000"/>
              <a:ext cx="103212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394000"/>
              <a:ext cx="92556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1080" y="2394000"/>
              <a:ext cx="16380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9080" y="2394000"/>
              <a:ext cx="112104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8000" y="520524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3400" y="520524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520524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1080" y="520524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9080" y="520524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34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1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9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360" y="14875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00" y="239400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520524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36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901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360" y="111600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360" y="61117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sldNum" idx="3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C6CB-34B9-47DC-AD74-706D2E96552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24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8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9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0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291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6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47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767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476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76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4767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476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6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47678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74767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60360" y="429228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Information zum Stand neue Geschäftsstelle in Augsburg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0360" y="3916080"/>
            <a:ext cx="597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0360" y="6154560"/>
            <a:ext cx="597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Calibri"/>
              </a:rPr>
              <a:t>Ort |  TT. Monat JJJJ | Vorname Nachname, Funktion/Abteilung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ier gibt es eine Tabellenformatvorlage!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DFFD-4A02-4E84-99EE-5B397CA45F61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0360" y="1116000"/>
          <a:ext cx="8429760" cy="4995720"/>
        </p:xfrm>
        <a:graphic>
          <a:graphicData uri="http://schemas.openxmlformats.org/drawingml/2006/table">
            <a:tbl>
              <a:tblPr/>
              <a:tblGrid>
                <a:gridCol w="1547640"/>
                <a:gridCol w="2165400"/>
                <a:gridCol w="1032120"/>
                <a:gridCol w="925560"/>
                <a:gridCol w="1638000"/>
                <a:gridCol w="1121040"/>
              </a:tblGrid>
              <a:tr h="274320"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rowSpan="3"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Das Profil der KJF mit dem Gesamtansatz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„Profilupdate“ im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Verband verstärkt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in den Fokus rück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Kommunikation des Profilupdate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es mit allen Mitarbeitern z.B. durch: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Storytelling (regelmäßige Botschaften im KJF-Mitarbeiterportal)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Anpassung Programm „Herzlich Willkommen“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Einbindung des Gesamtansatz „Profilupdate“ in das KJF-Führungskräftekonzept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60360" y="155700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188568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0360" y="222696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0360" y="375732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60360" y="408744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0360" y="442728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8" name="Foliennummernplatzhalter 7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0A2-6355-4421-90E8-E90AFCB51E3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60360" y="95040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Bei Rückfragen wenden Sie sich bitte an: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60360" y="3780000"/>
            <a:ext cx="4788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Vielen Dank!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60360" y="330156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462"/>
                </a:solidFill>
                <a:latin typeface="Calibri Light"/>
              </a:rPr>
              <a:t>Bericht Abteilung Wirtschaft und Finanzen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360" y="2923920"/>
            <a:ext cx="5975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2D3-C9AC-4ECF-B7EE-15F24841317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2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Inhaltsverzeichnis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360" y="1584360"/>
            <a:ext cx="5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00000" y="1584360"/>
            <a:ext cx="5832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AFEE-44FA-4730-AFA8-EAEBEB858023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3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D6E3-9345-492E-9102-CC38B3826BA5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360" y="1581120"/>
            <a:ext cx="529128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6372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Ers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Und zwei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0972-3C61-4515-9990-04F712A47542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60360" y="907920"/>
            <a:ext cx="62928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 zum Bild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414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CE2-871D-47C5-9B9F-B2226F5BF750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360" y="1584000"/>
            <a:ext cx="262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5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B723-616F-4BA2-8DB3-43C624CB091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80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6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812-0F88-4F0C-BFF1-377A637D85A0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00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000" y="3384720"/>
            <a:ext cx="4032360" cy="2257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7" name="Foliennummernplatzhalter 6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1C4-1E69-448B-8B39-C192D76874FD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9:41:30Z</dcterms:created>
  <dc:creator>Melanie Dippert</dc:creator>
  <dc:description/>
  <dc:language>en-US</dc:language>
  <cp:lastModifiedBy>Microsoft Office-Anwender</cp:lastModifiedBy>
  <cp:lastPrinted>2017-10-24T09:33:50Z</cp:lastPrinted>
  <dcterms:modified xsi:type="dcterms:W3CDTF">2017-10-24T09:48:01Z</dcterms:modified>
  <cp:revision>90</cp:revision>
  <dc:subject/>
  <dc:title>PowerPoint-Präsentation</dc:title>
</cp:coreProperties>
</file>